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4.gif" ContentType="image/gif"/>
  <Override PartName="/ppt/media/image13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camera.wav" ContentType="audio/x-wav"/>
  <Override PartName="/ppt/media/image10.wmf" ContentType="image/x-wmf"/>
  <Override PartName="/ppt/media/image7.png" ContentType="image/png"/>
  <Override PartName="/ppt/media/image11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51663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516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20960" cy="34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7000" y="4389120"/>
            <a:ext cx="5097600" cy="4159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77860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8400" y="877860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8A40EC-3146-4EEC-871A-8E8108839F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20960" cy="3465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7000" y="4389120"/>
            <a:ext cx="5097600" cy="4159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Hol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20960" cy="3465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7000" y="4389120"/>
            <a:ext cx="5097600" cy="4159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crawle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20960" cy="3465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7000" y="4389120"/>
            <a:ext cx="5097600" cy="4159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 it to individual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269-DC85-4642-ABF0-FC64B1FF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7F2-D470-48CE-B0F2-38EE11C7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D36-074C-4AA3-AB87-F74AAFCE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4F7-C3D6-413A-974F-FACD7218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BA40-6337-4B96-A07C-9FA41451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54B0-F3DD-497E-AF5F-D4761783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0817-C6F5-4D24-92BE-E89EC466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268C-E56C-493F-85FA-762C2D11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8CC6-AD43-4BC3-8AAB-A891005A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9BA-C2A8-42AA-B7D2-04F20627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9409-45D1-444F-A1C9-29493A09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5A9-2FA7-4959-BF72-8E528531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183C-DC1D-4A74-83E2-A12025FA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B599-D288-4B47-9821-37E63132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2727-C767-45CA-B16C-2FADBFE1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A74C-40C0-4369-8CFC-D95A38FF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697C-1D5F-40F1-9CDD-4AE0FEE7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2EA-7448-4141-92E0-2C080EE5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32D-5FDC-4EF1-B8FC-E52A946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5DF-9AE7-48CE-9502-081420A3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D00-C0F6-4EB5-B7E4-7AC54617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F62-73DA-44A9-8EDA-DF73E030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79C-1474-47C8-99D2-6ABD503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927-EDF5-47AC-A407-1A884BFB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222F-CFA5-4483-8E8F-102C91C0C8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32D3-890A-4D4E-97E9-AB6F1C171E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ebsearch.about.com/library/cheatsheet/blgooglecheatsheet.htm" TargetMode="External"/><Relationship Id="rId2" Type="http://schemas.openxmlformats.org/officeDocument/2006/relationships/hyperlink" Target="http://www.boolify.org/" TargetMode="External"/><Relationship Id="rId3" Type="http://schemas.openxmlformats.org/officeDocument/2006/relationships/hyperlink" Target="http://www.boolify.org/" TargetMode="External"/><Relationship Id="rId4" Type="http://schemas.openxmlformats.org/officeDocument/2006/relationships/hyperlink" Target="http://www.boolify.org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ask.com/" TargetMode="External"/><Relationship Id="rId3" Type="http://schemas.openxmlformats.org/officeDocument/2006/relationships/hyperlink" Target="http://www.askjeeves.com/" TargetMode="External"/><Relationship Id="rId4" Type="http://schemas.openxmlformats.org/officeDocument/2006/relationships/hyperlink" Target="http://www.lycos.com/" TargetMode="External"/><Relationship Id="rId5" Type="http://schemas.openxmlformats.org/officeDocument/2006/relationships/hyperlink" Target="http://www.dogpile.com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"/>
              </a:rPr>
              <a:t>Searching the Internet Using Google Tips and Tri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6248160" cy="2489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Easy Google Tips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for Searching the Interne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61704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 Boolean Oper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only those pages that contain both of the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ll pages that contain either of the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ll pages that contain the word before not, then remove any that also contain the word following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70280" y="135900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3808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Georg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815-18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617220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 courtesy of: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ttp://www-groups.dcs.st-andrews.ac.uk/~history/Mathematicians/Bool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47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  Exact Phrase Ma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multi-word terms in quotes to instruct the site to match only pages that show the same words in the same o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49495"/>
          <a:stretch/>
        </p:blipFill>
        <p:spPr>
          <a:xfrm>
            <a:off x="1219320" y="3733920"/>
            <a:ext cx="6858000" cy="259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71800" y="5410080"/>
            <a:ext cx="16002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17040"/>
            <a:ext cx="863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 Order of Word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rder  of your words does m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mean:  “pizza pepperoni” or “pepperoni pizza”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 rot="21269400">
            <a:off x="380520" y="3809880"/>
            <a:ext cx="421020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Pepperoni Pizz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 rot="20374800">
            <a:off x="5105520" y="4190760"/>
            <a:ext cx="356220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Pizza Pepper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over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61704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 Number Rang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using two periods with no spaces between two numbers in the search box, you are using a number range to sear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3878280"/>
            <a:ext cx="2743200" cy="248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837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  Google Sit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2438280"/>
            <a:ext cx="70866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you to ask Google to search a specific site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search box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:target.com “patio furnitur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:lakeviewacademy.com “calenda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121120" cy="2092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863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6.  Google Defi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feature is handy if you don’t know the spelling of a w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st type in define or definition and the word in the search bo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useful to define “buzz words” or phrases that occur commo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1978200" cy="1787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6170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.  Google Phonebo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Google to find a number or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name (first initial), last name, city or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name (first initial), last name, area code or zip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ne number, with area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name, city,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lso a name removal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07160" y="4343400"/>
            <a:ext cx="2035080" cy="2066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61704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.  Google Calcul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Google to convert measurements, and do simple math problem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y type in a conversion into the search b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gallons in l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2 miles in kilo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quare root (891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22880" y="3886200"/>
            <a:ext cx="1797120" cy="203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Internet?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is the world’s largest network of compu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twork is a group of two or more computer systems linked together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273480" cy="2378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617040"/>
            <a:ext cx="863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9.  Google Advanced Search Op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his option for a very specific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as much information as you 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an narrow down your search to a  specific time period o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 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oogle Custom Search Engi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users to select their own websites for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hare with others (they can add websites, to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s can customize home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here to get start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ahoma"/>
              </a:rPr>
              <a:t>If all else fails…</a:t>
            </a:r>
            <a:br>
              <a:rPr sz="4000"/>
            </a:br>
            <a:r>
              <a:rPr b="0" lang="en-US" sz="4000" spc="-1" strike="noStrike">
                <a:solidFill>
                  <a:srgbClr val="ccccff"/>
                </a:solidFill>
                <a:latin typeface="Tahoma"/>
              </a:rPr>
              <a:t>Think about changing.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057400" y="2209680"/>
            <a:ext cx="4952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arch Engine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362320" y="4267080"/>
            <a:ext cx="4267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arch Term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onal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Book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Univers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N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Scho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for Edu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Cheat 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ebsearch.about.com/library/cheatsheet/blgooglecheatsheet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wzi     http://www.viewzi.com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lify  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boolify.org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World Wide Web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part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text pictures, sounds,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browser software to access (Internet Explorer, Foxfire, Netscap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4191120"/>
            <a:ext cx="2362320" cy="2346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Search Engin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web page where you can conduct a search of the Web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Search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yahoo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ask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askjeeves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ww.lycos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www.dogpil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www.clusty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53341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343400" y="586728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5181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n I Really Search the Whole Web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arch site goes out and searches the entire We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earch engine has its own database (set of file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629080" cy="1190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715000" y="3581280"/>
            <a:ext cx="2516040" cy="2516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Te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ord of phrase you type in a text box on a search site’s main p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3880" y="3276720"/>
          <a:ext cx="624528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276720"/>
                    <a:ext cx="62452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V="1">
            <a:off x="1752480" y="4876560"/>
            <a:ext cx="1371600" cy="6094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56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arch Term goes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2049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ahoma"/>
              </a:rPr>
              <a:t>Hit 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A list of links to websites produced by a search engine in response to a search term that you have ent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20955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out H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it list may show no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ahoma"/>
              </a:rPr>
              <a:t>Modify your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it list may show thousands of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ahoma"/>
              </a:rPr>
              <a:t>Be more speci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likely matches at top of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30-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4:40:51Z</dcterms:created>
  <dc:creator>Cindy  Crowe</dc:creator>
  <dc:description/>
  <dc:language>en-US</dc:language>
  <cp:lastModifiedBy> </cp:lastModifiedBy>
  <dcterms:modified xsi:type="dcterms:W3CDTF">2008-07-24T18:34:23Z</dcterms:modified>
  <cp:revision>75</cp:revision>
  <dc:subject/>
  <dc:title>Searching the Internet</dc:title>
</cp:coreProperties>
</file>